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9FEEB-2BA3-4835-B333-06342D74C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D1FF6-F549-43C0-BED2-EF437163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0FB43-59E8-4B72-B23F-C09CE1B04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E3DA6-12FE-4632-BA44-B049EC230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63CDE-7C89-4B94-85A2-1DE7D0FE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6B6C2-FE4A-4493-A65E-5A3ED4E9B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26952-7B7D-4A12-855F-E184F1072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2BD3C-1B96-4858-AF47-1D8C7520B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F6BA9-1244-407C-8D1D-6703D60C7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1EDB8-F138-4E48-A9AC-72F91FE58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B59C0-AFA4-4A32-A06A-CB5AD7530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F53C7-1E01-4F5F-95C5-07C25BADA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9C39-F0A4-4A9C-A93A-7CAC2F6E5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LANDFORM TERRAINS OF HB/EAST COAST</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609480" y="304920"/>
            <a:ext cx="8382240" cy="629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a:t>
            </a:r>
            <a:r>
              <a:rPr b="1" lang="en-NZ" sz="1800" spc="-1" strike="noStrike" u="sng">
                <a:solidFill>
                  <a:srgbClr val="000000"/>
                </a:solidFill>
                <a:uFillTx/>
                <a:latin typeface="Arial"/>
              </a:rPr>
              <a:t>Coastal Upland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Made of same material as depression/low hills/terraces terrain but have been block-faulted. Differential erosion of sandstone, limestones and impervious siltstones has resulted in cuesta and Karst topography e.g. Te Mata Peak, Maraetotara plateau, Kahuranaki, Craggy Range (all consist of more resistant limestone) with northeast trending ridges, their steepest slopes are usually fault scarps facing east, separated by broad valleys. Highest elevation 600m nearest coasts. 20 to 40 km wide but continues off sho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Much very soft mudstone/clays in coastal areas e.g. Cape kidnappers, Young Nicks head, Mahia Peninsula leads to massive slope failure especially when lubricated by heavy cyclonic easterlies which the region is prone to. The clays are in 5m thick beds and are bright red and green and have been known to ooze up through faults. They can result in marshy and lake landscapes and rounded humpy hill forma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a:t>
            </a:r>
            <a:r>
              <a:rPr b="1" lang="en-NZ" sz="1800" spc="-1" strike="noStrike" u="sng">
                <a:solidFill>
                  <a:srgbClr val="000000"/>
                </a:solidFill>
                <a:uFillTx/>
                <a:latin typeface="Arial"/>
              </a:rPr>
              <a:t>Northern Hawkes Ba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Comprises an uplifted gently dipping and dissected plateau up to 1000m at the Mangaharuru Range. Generally summits about the same (200m) height. Mostly mudstone from Tutira to Wairoa and beyond. Easily incised with many landslips and slides. Some harder limestones e.g. Tangoio Bluff, Napier Hill.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85800" y="30240"/>
            <a:ext cx="7848720" cy="686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990720" y="39600"/>
            <a:ext cx="7162560" cy="677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066680" y="14400"/>
            <a:ext cx="7010640" cy="68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3611" t="0" r="0" b="3658"/>
          <a:stretch/>
        </p:blipFill>
        <p:spPr>
          <a:xfrm>
            <a:off x="1504800" y="0"/>
            <a:ext cx="61326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1179360"/>
            <a:ext cx="9144000" cy="44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448" t="3511" r="12008" b="3595"/>
          <a:stretch/>
        </p:blipFill>
        <p:spPr>
          <a:xfrm>
            <a:off x="1447920" y="268200"/>
            <a:ext cx="7086600" cy="628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19987" t="2385" r="15837" b="2385"/>
          <a:stretch/>
        </p:blipFill>
        <p:spPr>
          <a:xfrm>
            <a:off x="0" y="955800"/>
            <a:ext cx="9144000" cy="474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rcRect l="0" t="2440" r="0" b="0"/>
          <a:stretch/>
        </p:blipFill>
        <p:spPr>
          <a:xfrm>
            <a:off x="1143000" y="74520"/>
            <a:ext cx="6781680" cy="672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2326" t="6476" r="3489" b="4058"/>
          <a:stretch/>
        </p:blipFill>
        <p:spPr>
          <a:xfrm>
            <a:off x="762120" y="58680"/>
            <a:ext cx="7391160" cy="675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762120" y="0"/>
            <a:ext cx="74674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Arial"/>
              </a:rPr>
              <a:t>LANDFORM TERRAINS OF HB/EAST COAST</a:t>
            </a:r>
            <a:endParaRPr b="0" lang="en-US" sz="2400" spc="-1" strike="noStrike">
              <a:solidFill>
                <a:srgbClr val="000000"/>
              </a:solidFill>
              <a:latin typeface="Arial"/>
            </a:endParaRPr>
          </a:p>
        </p:txBody>
      </p:sp>
      <p:sp>
        <p:nvSpPr>
          <p:cNvPr id="50" name=""/>
          <p:cNvSpPr/>
          <p:nvPr/>
        </p:nvSpPr>
        <p:spPr>
          <a:xfrm>
            <a:off x="685800" y="609480"/>
            <a:ext cx="7924680" cy="53640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4 distinctive terrains</a:t>
            </a:r>
            <a:endParaRPr b="0" lang="en-US" sz="1600" spc="-1" strike="noStrike">
              <a:solidFill>
                <a:srgbClr val="000000"/>
              </a:solidFill>
              <a:latin typeface="Arial"/>
            </a:endParaRPr>
          </a:p>
          <a:p>
            <a:pPr marL="343080" indent="-343080">
              <a:spcBef>
                <a:spcPts val="1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333399"/>
                </a:solidFill>
                <a:uFillTx/>
                <a:latin typeface="Arial"/>
              </a:rPr>
              <a:t>Axial ranges</a:t>
            </a:r>
            <a:endParaRPr b="0" lang="en-US" sz="16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Comprise Ruahine, Kaweka, Huiarau and Raukumara Ranges of Triassic and Jurassic age.(170mybp)</a:t>
            </a:r>
            <a:endParaRPr b="0" lang="en-US" sz="16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Made up of sandstones, mudstones and greywacke caused by crustal stresses at the plate boundary. Deposited in deep marine basins then eroded to a lowlying area and transported to ocean basins by rivers. 1mybp uplifted to almost 2000m in places and aligned mostly NNE/SSW</a:t>
            </a:r>
            <a:endParaRPr b="0" lang="en-US" sz="16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Fractured, faulted, both laterally (e.g. Ruahine reverse Fault) and transcurrently (e.g. Mohaka Fault, Kaweka Fault) to form ‘horst and graben’ terrain (e.g. Ohara Depression and Wakarara range)</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2. </a:t>
            </a:r>
            <a:r>
              <a:rPr b="1" lang="en-NZ" sz="1600" spc="-1" strike="noStrike" u="sng">
                <a:solidFill>
                  <a:srgbClr val="333399"/>
                </a:solidFill>
                <a:uFillTx/>
                <a:latin typeface="Arial"/>
              </a:rPr>
              <a:t>Inland Depression (low hills)</a:t>
            </a:r>
            <a:endParaRPr b="0" lang="en-US" sz="16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Extends from Wairarapa. Low hills and terraces. 20km wide at Hastings to 12km at woodville.</a:t>
            </a:r>
            <a:endParaRPr b="0" lang="en-US" sz="16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333399"/>
                </a:solidFill>
                <a:latin typeface="Arial"/>
              </a:rPr>
              <a:t>Terraces are up to 500m asl and dip eastward. Formed after present rivers were. Lower younger ones form Ruataniwha Plains and border main rivers. Made up of mostly greywacke and sands, silts and gravels from ranges up to 1700m thick and have a loess and tephra cover bed up to 1m thi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990720" y="685800"/>
            <a:ext cx="693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09480" y="533520"/>
            <a:ext cx="792504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ffff00"/>
                </a:solidFill>
                <a:latin typeface="Arial"/>
              </a:rPr>
              <a:t>Depression filled with thick (up to 1700m) Pleistocene/Pliocene sediments of mudstone, sandstone and limestone. Shows there was a huge seaway in Pliocene, but conglomerates and pumice (from volcanic eruptions) show it became a lake and riverway in Pleistocene when sea levels dropped and slow uplift had begun by Ruahine and Wakarara ranges which dragged the depression up too. Has become dissected as this uplift has continued.</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 </a:t>
            </a:r>
            <a:r>
              <a:rPr b="0" lang="en-NZ" sz="1800" spc="-1" strike="noStrike">
                <a:solidFill>
                  <a:srgbClr val="ffff00"/>
                </a:solidFill>
                <a:latin typeface="Arial"/>
              </a:rPr>
              <a:t>The Depression is also folded and faulted NE/SW which has influenced river directions (e.g. Tukituki follows Tukituki Fault and would once have flowed into sea near Kairakau, Ngaruroro follows Kaweka fault) and deposition which has covered faults. Many towns and cities sit on these faults (e.g. Hastings sits on the Poukawa fault, Napier sits on the Awanui and Napier faults). Lakes Oingo and Runanga were formed when movement along the Puketapu Fault caused rivers to reverse.</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 </a:t>
            </a:r>
            <a:r>
              <a:rPr b="0" lang="en-NZ" sz="1800" spc="-1" strike="noStrike">
                <a:solidFill>
                  <a:srgbClr val="ffff00"/>
                </a:solidFill>
                <a:latin typeface="Arial"/>
              </a:rPr>
              <a:t>The 1931 earthquake caused uplift of 2m which drained the Ahuriri lagoon and caused the Tutaekuri River to discharge at Awato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6T08:38:20Z</dcterms:created>
  <dc:creator>jamesw</dc:creator>
  <dc:description/>
  <dc:language>en-US</dc:language>
  <cp:lastModifiedBy>jamesw</cp:lastModifiedBy>
  <dcterms:modified xsi:type="dcterms:W3CDTF">2006-04-02T21:34:06Z</dcterms:modified>
  <cp:revision>7</cp:revision>
  <dc:subject/>
  <dc:title>Slide 1</dc:title>
</cp:coreProperties>
</file>